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BD315-73DE-4ADA-8F9C-C4EE62401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A699F-2390-4A9B-809A-3F96EAD54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B3DEA-C660-461F-945E-186BEEA54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B8FE6-1344-4439-BD19-462667B5C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2988B-DB44-45E3-B88A-477F3E189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57C4C-956F-46FD-8C8D-8150D2B79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7BA71-71E8-4365-A40B-1CCE9687A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FC480-ECBA-41F0-91BD-ABB11A3EC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2356F-9C5A-405E-8768-98FE0F71F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FDD09-F9F0-48AB-B6CB-0A1D925D0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9BB86-8D84-4733-A242-71DC2073B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D32C6-0F6B-42BD-8E4F-9E3D3CC80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DE287-6F0B-43DE-BBD8-479C64E9C7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th01" descr=""/>
          <p:cNvPicPr/>
          <p:nvPr/>
        </p:nvPicPr>
        <p:blipFill>
          <a:blip r:embed="rId1"/>
          <a:stretch/>
        </p:blipFill>
        <p:spPr>
          <a:xfrm>
            <a:off x="0" y="0"/>
            <a:ext cx="472428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4367520" y="349200"/>
            <a:ext cx="45712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لمّا بْكَرِّسْلَكْ ذات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بتتغيَّر كل حاجات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موهبتي وكل حيات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بتصير شهادة عنك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لما بكرسلك ذات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بتتغير كل حاجات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كل لحظة من حيات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بتغنيها قوة حبك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th01" descr=""/>
          <p:cNvPicPr/>
          <p:nvPr/>
        </p:nvPicPr>
        <p:blipFill>
          <a:blip r:embed="rId1"/>
          <a:stretch/>
        </p:blipFill>
        <p:spPr>
          <a:xfrm>
            <a:off x="0" y="0"/>
            <a:ext cx="472428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4210200" y="349200"/>
            <a:ext cx="54050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لما برتّلك يوميِّه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ببَشِّر فيك اللي حْوالَي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شو اللي بيتغيَّر فيي 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بقلبي بيولد فرح جديد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لما الوزنة البين إيديّ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بتكبر وبقدّملك هي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النعمة العندي بتزيد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th01" descr=""/>
          <p:cNvPicPr/>
          <p:nvPr/>
        </p:nvPicPr>
        <p:blipFill>
          <a:blip r:embed="rId1"/>
          <a:stretch/>
        </p:blipFill>
        <p:spPr>
          <a:xfrm>
            <a:off x="0" y="0"/>
            <a:ext cx="472428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4367520" y="349200"/>
            <a:ext cx="45712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لمّا بْكَرِّسْلَكْ ذات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بتتغيَّر كل حاجات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موهبتي وكل حيات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بتصير شهادة عنك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لما بكرسلك ذات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بتتغير كل حاجات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كل لحظة من حيات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بتغنيها قوة حبك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th01" descr=""/>
          <p:cNvPicPr/>
          <p:nvPr/>
        </p:nvPicPr>
        <p:blipFill>
          <a:blip r:embed="rId1"/>
          <a:stretch/>
        </p:blipFill>
        <p:spPr>
          <a:xfrm>
            <a:off x="0" y="0"/>
            <a:ext cx="472428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4285800" y="349200"/>
            <a:ext cx="518112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لما بقدّملَك كل حب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وبتركلَك مطرح بقلب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شو اللي بيتغيّر فيي 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بقلبي بيولد فرح جديد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لما بصلّي كل دقيق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وبِرفَع صَوتي للحقيق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النعمة العندي بتزيد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(لما بكرسلك ذاتي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31T13:59:33Z</dcterms:created>
  <dc:creator>USER</dc:creator>
  <dc:description/>
  <dc:language>en-US</dc:language>
  <cp:lastModifiedBy>USER</cp:lastModifiedBy>
  <dcterms:modified xsi:type="dcterms:W3CDTF">2003-02-08T06:50:25Z</dcterms:modified>
  <cp:revision>12</cp:revision>
  <dc:subject/>
  <dc:title>PowerPoint Presentation</dc:title>
</cp:coreProperties>
</file>